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EA6-FD41-4F5C-A224-8A2D3398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1E3-7BA7-461E-AE6B-1AA3FED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1BA-235F-48BB-ACFB-3E255491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2B3-27F0-43C5-B476-3B615535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39F-BA6D-4B6A-B031-8AE9082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803-F9A1-4077-92AB-1DB6EA7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CDC-B0ED-4746-83EA-7B5E598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625-CE2A-49CA-82B7-F68E8AD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352-FD47-486D-8045-35EC907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E2E-5799-4DBD-A755-4F129F4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DFF-E46E-42DB-AC44-6042818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290-55BB-429C-A170-414E099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4E7A-A880-4C5C-B36B-E8AA0E78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0 Len k tebe, Tvorca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eď v tvojej láske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i večný život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mil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rániš deň po dn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uj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ždy som nehod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:||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bezpečný si ští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v úzk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Ty v láske svojej chceš ma skryť pre večnosť z milosti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7:22Z</dcterms:modified>
  <cp:revision>31</cp:revision>
  <dc:subject/>
  <dc:title>Je veľký náš Pán, on slávy je Kráľ Nech do všetkých strán  spev vrúcnych znie chvál.</dc:title>
</cp:coreProperties>
</file>